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B35-932A-4E2C-B3B6-B81F5575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9AC-9D24-4B3D-B06A-2DC07C7C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062-29ED-41DD-8CDA-6E3288C2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4AA-6C5C-49F7-B52A-17D0D82A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1F67-F926-4208-9B26-825AF807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5AD3-3776-48F7-9AE4-48E130A1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B7B6-A806-4AD6-A107-8FE05D0F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5F3B-47E3-4B3D-B37D-3D5663B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69DB-FAEE-4E31-8EC0-A6B72C35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104-D9AE-46CA-AA40-8AC42DA3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2A81-606C-4C6C-A700-A52F9B2B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3B8-713C-4C47-98BC-8495CC01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3FCE-C349-4812-B5B2-6DED9E4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B61D-5DE9-453B-9657-CA05C6D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9A71-E932-49BB-876D-62F42D75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5F6D-D708-4264-B66C-83FB8B26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62AC-D18C-4937-AF68-712A4E07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FB5-67C8-497A-AD43-1A3F19B5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19E-51E4-4F49-99D4-C916B3DD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21C-FF14-4DCD-9B9C-C656ADB8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5EC-E416-4170-8FCF-F75907A3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38A-98E7-4D56-98E8-619C2AD3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DAA-638A-4E4D-9ED7-A2A3C645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5A0-9AC7-4759-9932-52487561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0C62-DA99-48E3-A162-CF2DF963D4A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037F-E967-4BE9-9940-28FE47E3E0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Use for Stu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computer to talk to your friends is cool.  Exploring Web sites makes school work more fu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 as there are rules in your classroom, in the Science lab, at home, and for crossing the street safely, there are rules for using computers, programs and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M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support the educational goals and objectives of RRIS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educationally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supervised by adults at all ti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may not type their own or others’ name, address, phone number or other personal information into any place on the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contribute to class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use teacher- designed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ow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acher-selected web pages with staff supervision-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owse mean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P-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 to the matrix with specific guidelines for student use of the Internet found posted in the la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teacher also has a copy and will be carefully monitoring the content produc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with your ITS or Librarian if there ar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nsure all information is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ppropri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evan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i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should get facts, not opinions or propaganda (unless your directions specifically ask for these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achers can assist students in accessing appropriate information from the intern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may also build their own curriculum-related web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th the abundance of new social media tools available to student:                                            wikis and blogs, student products. and documents have the potential to reach an audience far beyond the classroo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should request help in evaluating the credibility of the information and recognizing inappropriate cont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s brings new levels of responsibility and accountability for everyo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37160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th Superv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admin</cp:lastModifiedBy>
  <dcterms:modified xsi:type="dcterms:W3CDTF">2008-09-02T01:15:28Z</dcterms:modified>
  <cp:revision>21</cp:revision>
  <dc:subject/>
  <dc:title>Student Internet Use</dc:title>
</cp:coreProperties>
</file>